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wmf" ContentType="image/x-wmf"/>
  <Override PartName="/ppt/media/image4.jpeg" ContentType="image/jpeg"/>
  <Override PartName="/ppt/media/image12.wmf" ContentType="image/x-wmf"/>
  <Override PartName="/ppt/media/image11.jpeg" ContentType="image/jpeg"/>
  <Override PartName="/ppt/media/image7.wmf" ContentType="image/x-wmf"/>
  <Override PartName="/ppt/media/image6.wmf" ContentType="image/x-wmf"/>
  <Override PartName="/ppt/media/image13.wmf" ContentType="image/x-wmf"/>
  <Override PartName="/ppt/media/image9.png" ContentType="image/png"/>
  <Override PartName="/ppt/media/image17.wmf" ContentType="image/x-wmf"/>
  <Override PartName="/ppt/media/image8.wmf" ContentType="image/x-wmf"/>
  <Override PartName="/ppt/media/image5.gif" ContentType="image/gif"/>
  <Override PartName="/ppt/media/image3.wmf" ContentType="image/x-wmf"/>
  <Override PartName="/ppt/media/image26.wmf" ContentType="image/x-wmf"/>
  <Override PartName="/ppt/media/image28.wmf" ContentType="image/x-wmf"/>
  <Override PartName="/ppt/media/image27.wmf" ContentType="image/x-wmf"/>
  <Override PartName="/ppt/media/image21.jpeg" ContentType="image/jpeg"/>
  <Override PartName="/ppt/media/image16.jpeg" ContentType="image/jpeg"/>
  <Override PartName="/ppt/media/image15.wmf" ContentType="image/x-wmf"/>
  <Override PartName="/ppt/media/image24.jpeg" ContentType="image/jpeg"/>
  <Override PartName="/ppt/media/image22.wmf" ContentType="image/x-wmf"/>
  <Override PartName="/ppt/media/image19.wmf" ContentType="image/x-wmf"/>
  <Override PartName="/ppt/media/image1.wmf" ContentType="image/x-wmf"/>
  <Override PartName="/ppt/media/image20.wmf" ContentType="image/x-wmf"/>
  <Override PartName="/ppt/media/image18.wmf" ContentType="image/x-wmf"/>
  <Override PartName="/ppt/media/image14.wmf" ContentType="image/x-wmf"/>
  <Override PartName="/ppt/media/image2.wmf" ContentType="image/x-wmf"/>
  <Override PartName="/ppt/media/image23.jpeg" ContentType="image/jpeg"/>
  <Override PartName="/ppt/media/image25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76BB2-0BBC-487D-A3A6-6843B8981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F9FE5-4886-4916-8C59-CF8A8AFE9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D5E71-806B-42A4-ABF7-23A048FA8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11195-4FD5-4FE3-8722-B1F19F4E5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9EFAD-542E-47BC-AC39-BEAECEEC8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5D214-2083-4BFB-A2F7-2B8C9D5F5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08B31-BC27-455C-BEB4-B032FFDAF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8BBA3-CD7F-4449-BE2F-A5AF042F8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E4569-1679-4FF5-ACB2-0269AE6DE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4F341-0A37-49CE-89A2-9BA72047D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8669B-F7DF-42A3-8F43-2E012BEBA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DDBE9-64DB-4885-AB49-A2A05981A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be0e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CEF06-E303-419E-A683-7E7C059098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wmf"/><Relationship Id="rId3" Type="http://schemas.openxmlformats.org/officeDocument/2006/relationships/image" Target="../media/image27.wmf"/><Relationship Id="rId4" Type="http://schemas.openxmlformats.org/officeDocument/2006/relationships/image" Target="../media/image28.wmf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jpeg"/><Relationship Id="rId5" Type="http://schemas.openxmlformats.org/officeDocument/2006/relationships/image" Target="../media/image5.gif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wmf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jpeg"/><Relationship Id="rId3" Type="http://schemas.openxmlformats.org/officeDocument/2006/relationships/image" Target="../media/image17.wmf"/><Relationship Id="rId4" Type="http://schemas.openxmlformats.org/officeDocument/2006/relationships/image" Target="../media/image18.wmf"/><Relationship Id="rId5" Type="http://schemas.openxmlformats.org/officeDocument/2006/relationships/image" Target="../media/image19.wmf"/><Relationship Id="rId6" Type="http://schemas.openxmlformats.org/officeDocument/2006/relationships/image" Target="../media/image20.wmf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wmf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971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bbe0e3"/>
                </a:solidFill>
                <a:latin typeface="Arial"/>
              </a:rPr>
              <a:t>Simple Machines</a:t>
            </a:r>
            <a:endParaRPr b="0" lang="en-US" sz="70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580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be0e3"/>
                </a:solidFill>
                <a:latin typeface="Arial"/>
              </a:rPr>
              <a:t>Introduction 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be0e3"/>
                </a:solidFill>
                <a:latin typeface="Arial"/>
              </a:rPr>
              <a:t>Why Use Simple Machines?</a:t>
            </a:r>
            <a:endParaRPr b="0" lang="en-US" sz="44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85800" y="1981080"/>
            <a:ext cx="7543800" cy="39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the </a:t>
            </a:r>
            <a:r>
              <a:rPr b="0" lang="en-US" sz="3200" spc="-1" strike="noStrike">
                <a:solidFill>
                  <a:srgbClr val="ccff66"/>
                </a:solidFill>
                <a:latin typeface="Arial"/>
              </a:rPr>
              <a:t>mechanical advantag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king something easier to do,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t it takes a little longer to do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example, going up a longer flight of stairs instead of going straight up a lad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4343400" y="4883040"/>
            <a:ext cx="1614600" cy="1693800"/>
            <a:chOff x="4343400" y="4883040"/>
            <a:chExt cx="1614600" cy="1693800"/>
          </a:xfrm>
        </p:grpSpPr>
        <p:sp>
          <p:nvSpPr>
            <p:cNvPr id="93" name=""/>
            <p:cNvSpPr/>
            <p:nvPr/>
          </p:nvSpPr>
          <p:spPr>
            <a:xfrm>
              <a:off x="4343400" y="6550920"/>
              <a:ext cx="16146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905360" y="5716440"/>
              <a:ext cx="2833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647600" y="5996880"/>
              <a:ext cx="2833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429080" y="6293520"/>
              <a:ext cx="0" cy="2833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400280" y="6283800"/>
              <a:ext cx="2829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76760" y="6026400"/>
              <a:ext cx="0" cy="2833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933440" y="5740560"/>
              <a:ext cx="0" cy="2833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663160" y="4883040"/>
              <a:ext cx="2833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05400" y="5163120"/>
              <a:ext cx="2833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186880" y="5459760"/>
              <a:ext cx="0" cy="2829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158080" y="5450400"/>
              <a:ext cx="2833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34560" y="5193000"/>
              <a:ext cx="0" cy="2829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691240" y="4906800"/>
              <a:ext cx="0" cy="2833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2819520" y="4876560"/>
            <a:ext cx="858600" cy="1699560"/>
            <a:chOff x="2819520" y="4876560"/>
            <a:chExt cx="858600" cy="1699560"/>
          </a:xfrm>
        </p:grpSpPr>
        <p:sp>
          <p:nvSpPr>
            <p:cNvPr id="107" name=""/>
            <p:cNvSpPr/>
            <p:nvPr/>
          </p:nvSpPr>
          <p:spPr>
            <a:xfrm>
              <a:off x="2937960" y="6395760"/>
              <a:ext cx="1400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819520" y="6572520"/>
              <a:ext cx="7372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 flipV="1">
              <a:off x="2871360" y="4895280"/>
              <a:ext cx="663840" cy="16808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 flipV="1">
              <a:off x="3014280" y="4876560"/>
              <a:ext cx="663840" cy="16808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043440" y="6186600"/>
              <a:ext cx="1400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109320" y="5957640"/>
              <a:ext cx="1400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200400" y="5743440"/>
              <a:ext cx="1400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285720" y="5544000"/>
              <a:ext cx="1400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61320" y="5348520"/>
              <a:ext cx="1400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447720" y="5143320"/>
              <a:ext cx="1400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518640" y="4962240"/>
              <a:ext cx="1400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be0e3"/>
                </a:solidFill>
                <a:latin typeface="Arial"/>
              </a:rPr>
              <a:t>Complex Machines</a:t>
            </a:r>
            <a:endParaRPr b="0" lang="en-US" sz="44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bining two or more simple machines to work togeth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Exampl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r jack </a:t>
            </a:r>
            <a:r>
              <a:rPr b="1" lang="en-US" sz="2800" spc="-1" strike="noStrike">
                <a:solidFill>
                  <a:srgbClr val="ccffcc"/>
                </a:solidFill>
                <a:latin typeface="Arial"/>
              </a:rPr>
              <a:t>combin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wedge and scre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ane or tow truck </a:t>
            </a:r>
            <a:r>
              <a:rPr b="1" lang="en-US" sz="2800" spc="-1" strike="noStrike">
                <a:solidFill>
                  <a:srgbClr val="ccffcc"/>
                </a:solidFill>
                <a:latin typeface="Arial"/>
              </a:rPr>
              <a:t>combin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lever and pulle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el barrow </a:t>
            </a:r>
            <a:r>
              <a:rPr b="1" lang="en-US" sz="2800" spc="-1" strike="noStrike">
                <a:solidFill>
                  <a:srgbClr val="ccffcc"/>
                </a:solidFill>
                <a:latin typeface="Arial"/>
              </a:rPr>
              <a:t>combin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wheel and axle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th a lev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371600" y="5257800"/>
            <a:ext cx="2085840" cy="12445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3581280" y="495288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6934320" y="4724280"/>
            <a:ext cx="1368360" cy="175284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7391520" y="2438280"/>
            <a:ext cx="121896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be0e3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bbe0e3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685800" y="1295280"/>
          <a:ext cx="8229600" cy="5311800"/>
        </p:xfrm>
        <a:graphic>
          <a:graphicData uri="http://schemas.openxmlformats.org/drawingml/2006/table">
            <a:tbl>
              <a:tblPr/>
              <a:tblGrid>
                <a:gridCol w="1981080"/>
                <a:gridCol w="6248520"/>
              </a:tblGrid>
              <a:tr h="748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ff"/>
                          </a:solidFill>
                          <a:latin typeface="Arial"/>
                        </a:rPr>
                        <a:t>Wedg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ccff"/>
                          </a:solidFill>
                          <a:latin typeface="Arial"/>
                        </a:rPr>
                        <a:t>Pushes material apart, cut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99"/>
                          </a:solidFill>
                          <a:latin typeface="Arial"/>
                        </a:rPr>
                        <a:t>Wheel</a:t>
                      </a:r>
                      <a:br>
                        <a:rPr sz="2800"/>
                      </a:br>
                      <a:r>
                        <a:rPr b="0" lang="en-US" sz="2800" spc="-1" strike="noStrike">
                          <a:solidFill>
                            <a:srgbClr val="ffcc99"/>
                          </a:solidFill>
                          <a:latin typeface="Arial"/>
                        </a:rPr>
                        <a:t>and Ax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cc99"/>
                          </a:solidFill>
                          <a:latin typeface="Arial"/>
                        </a:rPr>
                        <a:t>Makes it easy to move things </a:t>
                      </a:r>
                      <a:br>
                        <a:rPr sz="2600"/>
                      </a:br>
                      <a:r>
                        <a:rPr b="0" lang="en-US" sz="2600" spc="-1" strike="noStrike">
                          <a:solidFill>
                            <a:srgbClr val="ffcc99"/>
                          </a:solidFill>
                          <a:latin typeface="Arial"/>
                        </a:rPr>
                        <a:t>by rolling them, and reducing friction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885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ffcc"/>
                          </a:solidFill>
                          <a:latin typeface="Arial"/>
                        </a:rPr>
                        <a:t>Lev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ccffcc"/>
                          </a:solidFill>
                          <a:latin typeface="Arial"/>
                        </a:rPr>
                        <a:t>Helps lift heavy weights </a:t>
                      </a:r>
                      <a:br>
                        <a:rPr sz="2600"/>
                      </a:br>
                      <a:r>
                        <a:rPr b="0" lang="en-US" sz="2600" spc="-1" strike="noStrike">
                          <a:solidFill>
                            <a:srgbClr val="ccffcc"/>
                          </a:solidFill>
                          <a:latin typeface="Arial"/>
                        </a:rPr>
                        <a:t>using longer distance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ff"/>
                          </a:solidFill>
                          <a:latin typeface="Arial"/>
                        </a:rPr>
                        <a:t>Inclined Pla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ccff"/>
                          </a:solidFill>
                          <a:latin typeface="Arial"/>
                        </a:rPr>
                        <a:t>Makes it easier to move objects upward; a longer path, but easier lifting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747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99"/>
                          </a:solidFill>
                          <a:latin typeface="Arial"/>
                        </a:rPr>
                        <a:t>Scre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cc99"/>
                          </a:solidFill>
                          <a:latin typeface="Arial"/>
                        </a:rPr>
                        <a:t>Turns rotation into lengthwise movement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ffcc"/>
                          </a:solidFill>
                          <a:latin typeface="Arial"/>
                        </a:rPr>
                        <a:t>Pulle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ccffcc"/>
                          </a:solidFill>
                          <a:latin typeface="Arial"/>
                        </a:rPr>
                        <a:t>Makes lifting heavy weights easier </a:t>
                      </a:r>
                      <a:br>
                        <a:rPr sz="2600"/>
                      </a:br>
                      <a:r>
                        <a:rPr b="0" lang="en-US" sz="2600" spc="-1" strike="noStrike">
                          <a:solidFill>
                            <a:srgbClr val="ccffcc"/>
                          </a:solidFill>
                          <a:latin typeface="Arial"/>
                        </a:rPr>
                        <a:t>by redirecting force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047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References</a:t>
            </a:r>
            <a:endParaRPr b="0" lang="en-US" sz="28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33520" y="406836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ll images © Copyright © 2004 Microsoft Corporation, One Microsoft Way, Redmond, WA 98052-6399 USA. All rights reserved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99"/>
                </a:solidFill>
                <a:latin typeface="Arial"/>
              </a:rPr>
              <a:t>Excep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for image below, which was created by the ITL Program, College of Engineering and Applied Science, University of Colorado at Boulder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4800600" y="5218200"/>
            <a:ext cx="3633840" cy="1411200"/>
            <a:chOff x="4800600" y="5218200"/>
            <a:chExt cx="3633840" cy="1411200"/>
          </a:xfrm>
        </p:grpSpPr>
        <p:pic>
          <p:nvPicPr>
            <p:cNvPr id="129" name="" descr=""/>
            <p:cNvPicPr/>
            <p:nvPr/>
          </p:nvPicPr>
          <p:blipFill>
            <a:blip r:embed="rId1"/>
            <a:stretch/>
          </p:blipFill>
          <p:spPr>
            <a:xfrm>
              <a:off x="4800600" y="5218200"/>
              <a:ext cx="3633840" cy="141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>
              <a:off x="4876920" y="5522760"/>
              <a:ext cx="68580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086600" y="5294160"/>
              <a:ext cx="99072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858000" y="6132600"/>
              <a:ext cx="99072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876920" y="6284880"/>
              <a:ext cx="91440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486400" y="5751360"/>
              <a:ext cx="99072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be0e3"/>
                </a:solidFill>
                <a:latin typeface="Arial"/>
              </a:rPr>
              <a:t>What are they?</a:t>
            </a:r>
            <a:endParaRPr b="0" lang="en-US" sz="44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312408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e machines are machines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th few or no moving parts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at are used to make work easi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be0e3"/>
                </a:solidFill>
                <a:latin typeface="Arial"/>
              </a:rPr>
              <a:t>Types of Simple Machines</a:t>
            </a:r>
            <a:endParaRPr b="0" lang="en-US" sz="4400" spc="-1" strike="noStrike">
              <a:solidFill>
                <a:srgbClr val="bbe0e3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1447920" y="1752480"/>
          <a:ext cx="5943600" cy="4525920"/>
        </p:xfrm>
        <a:graphic>
          <a:graphicData uri="http://schemas.openxmlformats.org/drawingml/2006/table">
            <a:tbl>
              <a:tblPr/>
              <a:tblGrid>
                <a:gridCol w="5943600"/>
              </a:tblGrid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dg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53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eel and Ax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ev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clined Pla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cre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53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ulle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be0e3"/>
                </a:solidFill>
                <a:latin typeface="Arial"/>
              </a:rPr>
              <a:t>Wedge</a:t>
            </a:r>
            <a:endParaRPr b="0" lang="en-US" sz="44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624852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ushes materials apart, cuts thing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Exampl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xe, doorstop, chisel, nail, saw, jackhammer, bulldozer, snow plow, horse plow, zipper, scissors, airplane wing, knife, fork, bow of a boat or shi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5791320" y="3733920"/>
            <a:ext cx="1825560" cy="12873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228600" y="4724280"/>
            <a:ext cx="2209680" cy="15796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2590920" y="4800600"/>
            <a:ext cx="4516200" cy="18288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7315200" y="4648320"/>
            <a:ext cx="1341360" cy="16761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5"/>
          <a:stretch/>
        </p:blipFill>
        <p:spPr>
          <a:xfrm>
            <a:off x="6781680" y="1371600"/>
            <a:ext cx="19558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be0e3"/>
                </a:solidFill>
                <a:latin typeface="Arial"/>
              </a:rPr>
              <a:t>Wheel and Axle</a:t>
            </a:r>
            <a:endParaRPr b="0" lang="en-US" sz="44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kes it easy to move things by rolling them, and reducing fri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Exampl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ar, bicycle, office chair,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el barrow, shopping cart,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nd truck, roller skat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4343400"/>
            <a:ext cx="1952640" cy="18003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 rot="21234000">
            <a:off x="5562720" y="3352320"/>
            <a:ext cx="2819160" cy="18241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838080" y="5257800"/>
            <a:ext cx="18288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be0e3"/>
                </a:solidFill>
                <a:latin typeface="Arial"/>
              </a:rPr>
              <a:t>Lever</a:t>
            </a:r>
            <a:endParaRPr b="0" lang="en-US" sz="44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kes lifting weight easier by using a fulcrum to redirect force over a longer dist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Exampl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 Unicode MS"/>
              </a:rPr>
              <a:t>see-saw, dump truck, broom, crane arm, hammer claw, crow bar, fishing pole, screwdriver, bottle open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590920" y="4343400"/>
            <a:ext cx="3633840" cy="1411200"/>
            <a:chOff x="2590920" y="4343400"/>
            <a:chExt cx="3633840" cy="1411200"/>
          </a:xfrm>
        </p:grpSpPr>
        <p:pic>
          <p:nvPicPr>
            <p:cNvPr id="62" name="" descr=""/>
            <p:cNvPicPr/>
            <p:nvPr/>
          </p:nvPicPr>
          <p:blipFill>
            <a:blip r:embed="rId1"/>
            <a:stretch/>
          </p:blipFill>
          <p:spPr>
            <a:xfrm>
              <a:off x="2590920" y="4343400"/>
              <a:ext cx="3633840" cy="141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"/>
            <p:cNvSpPr/>
            <p:nvPr/>
          </p:nvSpPr>
          <p:spPr>
            <a:xfrm>
              <a:off x="2667240" y="4647960"/>
              <a:ext cx="68580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876920" y="4419360"/>
              <a:ext cx="99072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648320" y="5257800"/>
              <a:ext cx="99072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667240" y="5410080"/>
              <a:ext cx="91440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276720" y="4876560"/>
              <a:ext cx="99072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553080" y="3886200"/>
            <a:ext cx="1809720" cy="22096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533520" y="3962520"/>
            <a:ext cx="184932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be0e3"/>
                </a:solidFill>
                <a:latin typeface="Arial"/>
              </a:rPr>
              <a:t>Inclined Plane</a:t>
            </a:r>
            <a:endParaRPr b="0" lang="en-US" sz="44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162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kes it easier to move objects upward, but you have to go further horizontal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Exampl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highway or sidewalk ramp, stairs, inclined conveyor belts, switchback roads or trai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3429000" y="5105520"/>
            <a:ext cx="3124080" cy="1143000"/>
          </a:xfrm>
          <a:prstGeom prst="rtTriangle">
            <a:avLst/>
          </a:prstGeom>
          <a:gradFill rotWithShape="0">
            <a:gsLst>
              <a:gs pos="0">
                <a:srgbClr val="750000"/>
              </a:gs>
              <a:gs pos="100000">
                <a:srgbClr val="ff0000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7010280" y="3733920"/>
            <a:ext cx="1503360" cy="22860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533520" y="4267080"/>
            <a:ext cx="2127240" cy="21337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3276720" y="3657600"/>
            <a:ext cx="2038320" cy="16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be0e3"/>
                </a:solidFill>
                <a:latin typeface="Arial"/>
              </a:rPr>
              <a:t>Screw</a:t>
            </a:r>
            <a:endParaRPr b="0" lang="en-US" sz="44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74674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urns rotation into lengthwise mov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akes many twists to go a short dist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lds things toge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Exampl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crews, bolts, clamps, jar lids, car jack, spinning stools, spiral stair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638680" y="4495680"/>
            <a:ext cx="1747800" cy="16257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28600" y="4114800"/>
            <a:ext cx="2057400" cy="164448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5562720" y="228600"/>
            <a:ext cx="1295280" cy="129528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4"/>
          <a:stretch/>
        </p:blipFill>
        <p:spPr>
          <a:xfrm>
            <a:off x="3505320" y="4038480"/>
            <a:ext cx="1817640" cy="241956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5"/>
          <a:stretch/>
        </p:blipFill>
        <p:spPr>
          <a:xfrm>
            <a:off x="1752480" y="5029200"/>
            <a:ext cx="1600200" cy="154764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6"/>
          <a:stretch/>
        </p:blipFill>
        <p:spPr>
          <a:xfrm>
            <a:off x="7543800" y="3962520"/>
            <a:ext cx="1189080" cy="26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be0e3"/>
                </a:solidFill>
                <a:latin typeface="Arial"/>
              </a:rPr>
              <a:t>Pulley</a:t>
            </a:r>
            <a:endParaRPr b="0" lang="en-US" sz="44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647712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kes lifting things with a rope easier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y redirecting force and the addition of additional pulle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Exampl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lag pole, elevator, sails, fishing nets, clothes lines, cranes, window shades and blinds, rock climbing g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3429000" y="4334040"/>
            <a:ext cx="2895480" cy="206676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5320" y="685800"/>
            <a:ext cx="1823760" cy="176364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6676920" y="2743200"/>
            <a:ext cx="2238480" cy="33526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4"/>
          <a:stretch/>
        </p:blipFill>
        <p:spPr>
          <a:xfrm>
            <a:off x="0" y="4675320"/>
            <a:ext cx="3048120" cy="20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9T01:11:32Z</dcterms:created>
  <dc:creator>Franklin D. Roosevelt</dc:creator>
  <dc:description/>
  <dc:language>en-US</dc:language>
  <cp:lastModifiedBy>denise</cp:lastModifiedBy>
  <dcterms:modified xsi:type="dcterms:W3CDTF">2007-01-04T22:12:41Z</dcterms:modified>
  <cp:revision>33</cp:revision>
  <dc:subject/>
  <dc:title>Simple Machines Review</dc:title>
</cp:coreProperties>
</file>